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FA8-6FD6-4C29-AEB1-B198901D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D5C-F1F3-4855-9E6F-4C8BC95A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3FF-5F13-4987-AA88-D25858DB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0B2-FFD1-41CE-BF4B-36DBD7A5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25E2-BBEF-432A-BC73-38A29575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FB89-1DA8-4DF2-8154-59D7B73F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88B3-8F13-4A1A-BEE9-63839BEC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C9B1-5FEF-42FC-82EA-AA1E2C0A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2156-1767-41FD-BE14-A8835C4A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4B87-A41C-455D-98BA-4AA14286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5644-8007-4628-9532-2ACE5B57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3B5-814C-4AC8-9D95-27BF58AA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6229-60D4-4CF6-B78D-A40F7492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1982-ED95-474B-899F-54C73C9E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6EA9-5B96-4B03-83C9-30935C90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3E15-EB62-483E-87FB-C7A5FB78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0EA6-8854-4037-BDE8-5BD506D6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9E2-E350-4CA8-AFA4-6CB7927A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5BF-41EE-46BA-BD5A-5A1525EF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CBD-FFF3-472B-91CA-E17BCB7A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C19-D076-42FF-A7DF-B71E07AC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BEC-67F0-4E2D-BD60-02FAF29C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E99-7FD0-493E-88E4-974D9AD7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B24-9840-4899-A015-E205313B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ECE9-3BF4-40A6-97BF-0D97BCCFE9B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AC52-1DE6-4126-BC67-4E32AE0A5B93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ytimes.com/learnin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minfo.org/Workbench/Metadata" TargetMode="External"/><Relationship Id="rId2" Type="http://schemas.openxmlformats.org/officeDocument/2006/relationships/hyperlink" Target="http://www.geminfo.org/Workbench/Metadata" TargetMode="External"/><Relationship Id="rId3" Type="http://schemas.openxmlformats.org/officeDocument/2006/relationships/hyperlink" Target="http://www.geminfo.org/Workbench/Metadata" TargetMode="External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e Resource Description Framework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nd its application to thegateway.org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ame approach for Statements about Statement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dc:relation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gem:isChildOf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rdf:value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0" lang="en-US" sz="1800" spc="-1" strike="noStrike" u="sng">
                <a:solidFill>
                  <a:srgbClr val="365d96"/>
                </a:solidFill>
                <a:uFillTx/>
                <a:latin typeface="Courier New"/>
                <a:hlinkClick r:id="rId1"/>
              </a:rPr>
              <a:t>http://www.nytimes.com/learning/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rdf:value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rdfs:label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Lesson Plan Archive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rdfs:label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gem:isChildOf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dc:relation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trolled language &amp; encoding schem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rdf:Description rdf:about="s3"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gem:ERIC rdf:about="http://128.208.100.148/</a:t>
            </a:r>
            <a:br>
              <a:rPr sz="1600"/>
            </a:b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     thesauri/eric?Secondary_Education"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rdf:value&gt;Secondary Education&lt;/rdf:value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/gem:ERIC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gem:recordcreated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gem:iso8601_1988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rdf:value&gt;1999-09-02T13:35:29-5:00&lt;/rdf:value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/gem:iso8601_1988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/gem:recordcreated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ventually, things get silly…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Link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parser from w3.org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Model and Syntax Specifica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Schema Specification 1.0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homepag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Expressing Qualified Dublin Core in RDF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e Gateway to Educational Material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GEMinfo (about the Gateway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s presentation:  www.whatsgrowing.com/jon/docs/asis_rdf.pp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ere we’ll go…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Brief tour of thegateway.org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urrent state of the project 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GEMcat 4.0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GEM2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RDF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ww.thegateway.or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 really big experiment in self-cataloging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 consortial effort to provide a directory to quality educational materials on the web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3954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Behind the scenes: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ontent providers and consortium members catalog and embed metadat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Register URIs with GEM 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Harvester crawls the metadata, builds database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GEM1 data is html meta tags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Descriptors based on Dublin Core + GEM qualifiers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www.</a:t>
            </a:r>
            <a:r>
              <a:rPr b="0" i="1" lang="en-US" sz="28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geminfo</a:t>
            </a:r>
            <a:r>
              <a:rPr b="0" i="1" lang="en-US" sz="28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.org/_x000b_Workbench/Metadat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Next steps: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05120" y="1981080"/>
            <a:ext cx="3124080" cy="1905120"/>
          </a:xfrm>
          <a:prstGeom prst="lightningBol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mplement z39.5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Blue Ang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mplement new data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RDF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Release new cataloging modul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GEMcat 4?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at is RDF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 model for representing metadat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 syntax for encoding and transporting this metadata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920" y="3886200"/>
            <a:ext cx="7391160" cy="1451520"/>
            <a:chOff x="304920" y="3886200"/>
            <a:chExt cx="7391160" cy="1451520"/>
          </a:xfrm>
        </p:grpSpPr>
        <p:sp>
          <p:nvSpPr>
            <p:cNvPr id="104" name=""/>
            <p:cNvSpPr/>
            <p:nvPr/>
          </p:nvSpPr>
          <p:spPr>
            <a:xfrm>
              <a:off x="304920" y="4191120"/>
              <a:ext cx="3276360" cy="83808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3886200"/>
              <a:ext cx="1676160" cy="1295280"/>
            </a:xfrm>
            <a:prstGeom prst="rect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value of 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the property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81280" y="4610160"/>
              <a:ext cx="2438640" cy="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1400" y="4343400"/>
              <a:ext cx="23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Stuff in the world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38480" y="4146480"/>
              <a:ext cx="13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property </a:t>
              </a:r>
              <a:br>
                <a:rPr sz="2400"/>
              </a:b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of stuff </a:t>
              </a:r>
              <a:br>
                <a:rPr sz="2400"/>
              </a:b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219320" y="5638680"/>
            <a:ext cx="6024240" cy="459720"/>
            <a:chOff x="1219320" y="5638680"/>
            <a:chExt cx="6024240" cy="459720"/>
          </a:xfrm>
        </p:grpSpPr>
        <p:grpSp>
          <p:nvGrpSpPr>
            <p:cNvPr id="110" name=""/>
            <p:cNvGrpSpPr/>
            <p:nvPr/>
          </p:nvGrpSpPr>
          <p:grpSpPr>
            <a:xfrm>
              <a:off x="1219320" y="5638680"/>
              <a:ext cx="3907440" cy="459720"/>
              <a:chOff x="1219320" y="5638680"/>
              <a:chExt cx="3907440" cy="459720"/>
            </a:xfrm>
          </p:grpSpPr>
          <p:sp>
            <p:nvSpPr>
              <p:cNvPr id="111" name=""/>
              <p:cNvSpPr/>
              <p:nvPr/>
            </p:nvSpPr>
            <p:spPr>
              <a:xfrm>
                <a:off x="1219320" y="5638680"/>
                <a:ext cx="109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Subject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9160" y="5638680"/>
                <a:ext cx="131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Predicate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248880" y="5638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o what does it look like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rdf:Description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rdf:about = "http://someplace.edu"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interest_level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Really Interesting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/interest_level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2133720"/>
            <a:ext cx="1676520" cy="459720"/>
          </a:xfrm>
          <a:prstGeom prst="rect">
            <a:avLst/>
          </a:prstGeom>
          <a:solidFill>
            <a:srgbClr val="d8d688"/>
          </a:solidFill>
          <a:ln w="1908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429000"/>
            <a:ext cx="1676520" cy="459720"/>
          </a:xfrm>
          <a:prstGeom prst="rect">
            <a:avLst/>
          </a:prstGeom>
          <a:solidFill>
            <a:srgbClr val="d8d688"/>
          </a:solidFill>
          <a:ln w="1908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edica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495680"/>
            <a:ext cx="1676520" cy="459720"/>
          </a:xfrm>
          <a:prstGeom prst="rect">
            <a:avLst/>
          </a:prstGeom>
          <a:solidFill>
            <a:srgbClr val="d8d688"/>
          </a:solidFill>
          <a:ln w="1908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362320" y="3276720"/>
            <a:ext cx="457200" cy="380880"/>
          </a:xfrm>
          <a:prstGeom prst="line">
            <a:avLst/>
          </a:prstGeom>
          <a:ln w="936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3657600"/>
            <a:ext cx="380880" cy="304920"/>
          </a:xfrm>
          <a:prstGeom prst="line">
            <a:avLst/>
          </a:prstGeom>
          <a:ln w="936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019920" y="3809880"/>
            <a:ext cx="457200" cy="609840"/>
          </a:xfrm>
          <a:prstGeom prst="line">
            <a:avLst/>
          </a:prstGeom>
          <a:ln w="936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5715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nd that is the entire model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ublin Core in RDF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rdf:Description rdf:about="http://some_URI”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title&gt;Expressing Dublin Core with</a:t>
            </a:r>
            <a:br>
              <a:rPr sz="2000"/>
            </a:b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  RDF&lt;/dc:title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creator&gt; Eric Miller &lt;/dc:creator&gt; &lt;dc:subject&gt; Dublin Core; RDF; XML &lt;/dc:subject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publisher&gt; Dublin Core Metadata Initiative &lt;/dc:publisher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contributor&gt;Dublin Core Data Model Working Group &lt;/dc:contributor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date&gt; 1999-07-01 &lt;/dc:date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format&gt; text/html &lt;/dc:format&gt; &lt;dc:language&gt; en &lt;/dc:language&gt; &lt;/rdf:Description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1447920"/>
            <a:ext cx="6019920" cy="4952880"/>
            <a:chOff x="914400" y="1447920"/>
            <a:chExt cx="6019920" cy="4952880"/>
          </a:xfrm>
        </p:grpSpPr>
        <p:sp>
          <p:nvSpPr>
            <p:cNvPr id="126" name=""/>
            <p:cNvSpPr/>
            <p:nvPr/>
          </p:nvSpPr>
          <p:spPr>
            <a:xfrm>
              <a:off x="914400" y="1447920"/>
              <a:ext cx="6019920" cy="49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127" name="sirpac_54928" descr=""/>
            <p:cNvPicPr/>
            <p:nvPr/>
          </p:nvPicPr>
          <p:blipFill>
            <a:blip r:embed="rId1"/>
            <a:stretch/>
          </p:blipFill>
          <p:spPr>
            <a:xfrm>
              <a:off x="990720" y="1523880"/>
              <a:ext cx="5833800" cy="479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tructured entiti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ell, there are complications…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191120"/>
            <a:ext cx="60195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rdf:Description rdf:about = "http://some_uri"&gt; 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dc:creator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rdf:Description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gem:person value="Jon Jab" /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gem:email value="jonjab@u.wash.edu" /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/dc:creator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54520" y="1447920"/>
            <a:ext cx="3763800" cy="2666880"/>
            <a:chOff x="3854520" y="1447920"/>
            <a:chExt cx="3763800" cy="2666880"/>
          </a:xfrm>
        </p:grpSpPr>
        <p:sp>
          <p:nvSpPr>
            <p:cNvPr id="132" name=""/>
            <p:cNvSpPr/>
            <p:nvPr/>
          </p:nvSpPr>
          <p:spPr>
            <a:xfrm>
              <a:off x="3854520" y="1447920"/>
              <a:ext cx="1905120" cy="60948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07360" y="2438640"/>
              <a:ext cx="1600200" cy="53316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50160" y="3505320"/>
              <a:ext cx="838080" cy="609480"/>
            </a:xfrm>
            <a:prstGeom prst="rect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Jon Jab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21760" y="3505320"/>
              <a:ext cx="990360" cy="609480"/>
            </a:xfrm>
            <a:prstGeom prst="rect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jonjab@</a:t>
              </a:r>
              <a:br>
                <a:rPr sz="1000"/>
              </a:b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u.wash.edu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31040" y="1981440"/>
              <a:ext cx="533520" cy="45720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88240" y="2971800"/>
              <a:ext cx="380880" cy="53352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45440" y="2971800"/>
              <a:ext cx="380880" cy="53352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59440" y="166068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http://some_uri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89680" y="205740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dc:creator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9320" y="312444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gem:person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51800" y="304812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gem:email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1T01:07:55Z</dcterms:created>
  <dc:creator>Jon Jablonski</dc:creator>
  <dc:description/>
  <dc:language>en-US</dc:language>
  <cp:lastModifiedBy>Jon Jablonski</cp:lastModifiedBy>
  <dcterms:modified xsi:type="dcterms:W3CDTF">2002-04-18T03:52:46Z</dcterms:modified>
  <cp:revision>6</cp:revision>
  <dc:subject/>
  <dc:title>The Resource Description Framework</dc:title>
</cp:coreProperties>
</file>