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A2A-20E2-4C68-9649-A6B0720A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8C2-D34A-4871-882F-3D506D20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604-A2E3-454C-916B-72E4FBCE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869-D9E6-435A-B154-FE578906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F1C4-1DDE-467E-A8F5-BF789AE1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A860-6AF0-4A47-B399-61002102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7BD4-52A4-43A8-906F-1C415F7F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A1CF-69A4-47A5-99C5-44A0B8EB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4D79-5579-4F47-B354-8B04A774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FE22-F3F7-4FC6-9E7C-AD93FA00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984F-8858-4A7E-97C9-25811E2B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3E5-7489-467D-9E13-C2C8D78B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56E8-9CBC-41CC-944E-401D8F00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84D9-AE0B-42C7-8228-9675B5EC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8EBF-84D5-4914-826B-131B19D1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3408-86BD-49AE-87F1-BDC25E8C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A6D0-230A-44A1-A4D6-A42B374F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6D1-D228-4FFD-AC85-E5E458DD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963-4FF0-4B7E-80F1-4BCC0EEF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B75-0BF1-4C01-A2DD-AC4366F9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5C58-A3DC-4759-8BB7-9F0683AE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986-DD98-416F-8FCC-B0BFFCE7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E45-F712-43A8-9544-113A1E50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8B28-A07D-4B02-8FAB-3DFC6D7D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F41D-6CDD-465F-BC69-934FC584CA5A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084E-C4EC-48E2-A6EA-DB172B78AE16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minfo.org/Workbench/Metadata" TargetMode="External"/><Relationship Id="rId2" Type="http://schemas.openxmlformats.org/officeDocument/2006/relationships/hyperlink" Target="http://www.geminfo.org/Workbench/Metadata" TargetMode="External"/><Relationship Id="rId3" Type="http://schemas.openxmlformats.org/officeDocument/2006/relationships/hyperlink" Target="http://www.geminfo.org/Workbench/Metadata" TargetMode="External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ytimes.com/learning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he Resource Description Framework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And its application to thegateway.org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5400" y="3657600"/>
            <a:ext cx="2466720" cy="2042280"/>
          </a:xfrm>
          <a:prstGeom prst="rect">
            <a:avLst/>
          </a:prstGeom>
          <a:solidFill>
            <a:srgbClr val="d8d688"/>
          </a:solidFill>
          <a:ln w="19080">
            <a:solidFill>
              <a:srgbClr val="484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or the IIAP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Jon Jablonski, </a:t>
            </a:r>
            <a:r>
              <a:rPr b="0" lang="en-US" sz="800" spc="-1" strike="noStrike">
                <a:solidFill>
                  <a:srgbClr val="2d2525"/>
                </a:solidFill>
                <a:latin typeface="Times New Roman"/>
              </a:rPr>
              <a:t>jonjab@u.washington.edu</a:t>
            </a:r>
            <a:endParaRPr b="0" lang="en-US" sz="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Research Assistant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The Information School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University of Washington.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May 18, 2001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chemas…</a:t>
            </a:r>
            <a:br>
              <a:rPr sz="4400"/>
            </a:br>
            <a:r>
              <a:rPr b="0" lang="en-US" sz="2800" spc="-1" strike="noStrike">
                <a:solidFill>
                  <a:srgbClr val="061c62"/>
                </a:solidFill>
                <a:latin typeface="Times New Roman"/>
              </a:rPr>
              <a:t> …define classes and properties.</a:t>
            </a:r>
            <a:endParaRPr b="0" lang="en-US" sz="28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Written in RDF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Describes the relationships between properties and their resource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nalogous to ERD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Can be used to control vocabulary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Core Classes 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dfs:Resource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df:Property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dfs:Class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Core Properties 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df:type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dfs:subClassOf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dfs:subPropertyOf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dfs:seeAlso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dfs:isDefinedBy</a:t>
            </a:r>
            <a:r>
              <a:rPr b="0" i="1" lang="en-US" sz="18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1c62"/>
                </a:solidFill>
                <a:latin typeface="Times New Roman"/>
              </a:rPr>
              <a:t>Schemas declare standard compliance.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Class rdf:ID = "LanguageScheme"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label&gt;Language Encoding Schemes&lt;/rdfs:label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comment&gt;A set of language encoding schemes and/or formats.&lt;/rdfs:comment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isDefinedBy rdf:resource = "" /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/rdfs:Class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Class rdf:ID = "RFC1766"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label&gt;RFC1766&lt;/rdfs:label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comment&gt;Internet RFC 1766 'Tags for the identification of Language' specifies a two 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letter code taken from ISO 639, followed optionally by a two letter country code 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taken from ISO 3166.&lt;/rdfs:comment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:type rdf:resource = "#LanguageScheme" /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seeAlso rdf:resource = "http://www.ietf.org/rfc/rfc1766.txt" /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isDefinedBy rdf:resource = "" /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/rdfs:Class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dc:language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dcq:RFC1766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:value&gt;EN&lt;/rdf:value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label&gt;English&lt;/rdfs:label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isDefinedBy rdf:resource="http://www.ietf.org/rfc/rfc1766.txt"/&gt; &lt;/dcq:RFC1766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/dc:language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876920" y="1981080"/>
            <a:ext cx="1828800" cy="685800"/>
            <a:chOff x="4876920" y="1981080"/>
            <a:chExt cx="1828800" cy="685800"/>
          </a:xfrm>
        </p:grpSpPr>
        <p:sp>
          <p:nvSpPr>
            <p:cNvPr id="149" name=""/>
            <p:cNvSpPr/>
            <p:nvPr/>
          </p:nvSpPr>
          <p:spPr>
            <a:xfrm>
              <a:off x="4876920" y="1981080"/>
              <a:ext cx="1828800" cy="68580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5560" y="2133360"/>
              <a:ext cx="8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0320"/>
                  </a:solidFill>
                  <a:latin typeface="Times New Roman"/>
                </a:rPr>
                <a:t>A class</a:t>
              </a:r>
              <a:endParaRPr b="0" lang="en-US" sz="18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3276720"/>
            <a:ext cx="2438280" cy="914400"/>
            <a:chOff x="4800600" y="3276720"/>
            <a:chExt cx="2438280" cy="914400"/>
          </a:xfrm>
        </p:grpSpPr>
        <p:sp>
          <p:nvSpPr>
            <p:cNvPr id="152" name=""/>
            <p:cNvSpPr/>
            <p:nvPr/>
          </p:nvSpPr>
          <p:spPr>
            <a:xfrm>
              <a:off x="4800600" y="3276720"/>
              <a:ext cx="2438280" cy="91440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2400" y="3505320"/>
              <a:ext cx="160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0320"/>
                  </a:solidFill>
                  <a:latin typeface="Times New Roman"/>
                </a:rPr>
                <a:t>Has subclasses.</a:t>
              </a:r>
              <a:endParaRPr b="0" lang="en-US" sz="18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114800" y="4800600"/>
            <a:ext cx="2743200" cy="990720"/>
            <a:chOff x="4114800" y="4800600"/>
            <a:chExt cx="2743200" cy="990720"/>
          </a:xfrm>
        </p:grpSpPr>
        <p:sp>
          <p:nvSpPr>
            <p:cNvPr id="155" name=""/>
            <p:cNvSpPr/>
            <p:nvPr/>
          </p:nvSpPr>
          <p:spPr>
            <a:xfrm>
              <a:off x="4114800" y="4800600"/>
              <a:ext cx="2743200" cy="99072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41600" y="4953240"/>
              <a:ext cx="245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0320"/>
                  </a:solidFill>
                  <a:latin typeface="Times New Roman"/>
                </a:rPr>
                <a:t>Which provide meaning </a:t>
              </a:r>
              <a:endParaRPr b="0" lang="en-US" sz="1800" spc="-1" strike="noStrike">
                <a:solidFill>
                  <a:srgbClr val="2d2525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0320"/>
                  </a:solidFill>
                  <a:latin typeface="Times New Roman"/>
                </a:rPr>
                <a:t>for instances of  data. </a:t>
              </a:r>
              <a:endParaRPr b="0" lang="en-US" sz="18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1c62"/>
                </a:solidFill>
                <a:latin typeface="Times New Roman"/>
              </a:rPr>
              <a:t>Schemas are also namespaces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&lt;?xml version="1.0" encoding="ISO-8859-1" ?&gt; </a:t>
            </a: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&lt;rdf:RDF xmlns:rdf="http://www.w3.org/1999/02/22-rdf-syntax-ns#" xmlns:rdfs="http://www.w3.org/2000/01/rdf-schema#" xmlns:dc="http://purl.org/dc/elements/1.1/" xmlns:dcq="http://dublincore.org/2000/03/13/dcq#" xmlns:dctype="http://dublincore.org/2000/03/13/dctype#" xmlns:gemq="http://gemstar.ischool.wasington.edu/2.0/gemq#"&gt;</a:t>
            </a: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&lt;rdf:Description rdf:about=""&gt;</a:t>
            </a: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&lt;dc:title&gt;The GEM Element Set v2.0&lt;/dc:title&gt; </a:t>
            </a: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&lt;dc:publisher&gt;The GEM Consortium&lt;/dc:publisher&gt; </a:t>
            </a: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&lt;dc:description&gt;The GEM metadata vocabulary is a simple vocabulary intended to facilitate discovery of educational resources.&lt;/dc:description&gt; </a:t>
            </a: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&lt;dc:language&gt;English&lt;/dc:language&gt; </a:t>
            </a: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&lt;dc:date&gt;2001-03-16&lt;/dc:date&gt; </a:t>
            </a: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&lt;/rdf:Description&gt;</a:t>
            </a: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029200" y="1981080"/>
            <a:ext cx="2141640" cy="1143000"/>
            <a:chOff x="5029200" y="1981080"/>
            <a:chExt cx="2141640" cy="1143000"/>
          </a:xfrm>
        </p:grpSpPr>
        <p:sp>
          <p:nvSpPr>
            <p:cNvPr id="160" name=""/>
            <p:cNvSpPr/>
            <p:nvPr/>
          </p:nvSpPr>
          <p:spPr>
            <a:xfrm>
              <a:off x="5029200" y="1981080"/>
              <a:ext cx="2141640" cy="114300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80040" y="2286000"/>
              <a:ext cx="1959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70320"/>
                  </a:solidFill>
                  <a:latin typeface="Times New Roman"/>
                </a:rPr>
                <a:t>Namespace declarations </a:t>
              </a:r>
              <a:endParaRPr b="0" lang="en-US" sz="1400" spc="-1" strike="noStrike">
                <a:solidFill>
                  <a:srgbClr val="2d2525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70320"/>
                  </a:solidFill>
                  <a:latin typeface="Times New Roman"/>
                </a:rPr>
                <a:t>point to schemas</a:t>
              </a:r>
              <a:endParaRPr b="0" lang="en-US" sz="1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648320" y="3886200"/>
            <a:ext cx="2187360" cy="1219320"/>
            <a:chOff x="4648320" y="3886200"/>
            <a:chExt cx="2187360" cy="1219320"/>
          </a:xfrm>
        </p:grpSpPr>
        <p:sp>
          <p:nvSpPr>
            <p:cNvPr id="163" name=""/>
            <p:cNvSpPr/>
            <p:nvPr/>
          </p:nvSpPr>
          <p:spPr>
            <a:xfrm>
              <a:off x="4648320" y="3886200"/>
              <a:ext cx="2187360" cy="121932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80880" y="4191120"/>
              <a:ext cx="180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70320"/>
                  </a:solidFill>
                  <a:latin typeface="Times New Roman"/>
                </a:rPr>
                <a:t>Providing semantic </a:t>
              </a:r>
              <a:endParaRPr b="0" lang="en-US" sz="1600" spc="-1" strike="noStrike">
                <a:solidFill>
                  <a:srgbClr val="2d2525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70320"/>
                  </a:solidFill>
                  <a:latin typeface="Times New Roman"/>
                </a:rPr>
                <a:t>meaning to entities.</a:t>
              </a:r>
              <a:endParaRPr b="0" lang="en-US" sz="1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ntrolled language:  values in RDF wordlist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rdf:Description rdf:about="s3"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gem:ERIC 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rdf:about="http://128.208.100.148/</a:t>
            </a:r>
            <a:br>
              <a:rPr sz="1800"/>
            </a:b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     thesauri/eric?Secondary_Education"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rdf:value&gt;Secondary Education&lt;/rdf:value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gem:ERIC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rdf:Description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3733920"/>
            <a:ext cx="5638680" cy="1719720"/>
          </a:xfrm>
          <a:prstGeom prst="rect">
            <a:avLst/>
          </a:prstGeom>
          <a:solidFill>
            <a:srgbClr val="d8d688"/>
          </a:solidFill>
          <a:ln w="15840">
            <a:solidFill>
              <a:srgbClr val="586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0320"/>
                </a:solidFill>
                <a:latin typeface="Times New Roman"/>
              </a:rPr>
              <a:t>Thesaurus is one type of word list stored in rdf: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rdf:Description about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900" spc="-1" strike="noStrike">
                <a:solidFill>
                  <a:srgbClr val="2d2525"/>
                </a:solidFill>
                <a:latin typeface="Times New Roman"/>
              </a:rPr>
              <a:t>http://raven.ischool.washington.edu/thesauri/eric?programs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"&gt;</a:t>
            </a:r>
            <a:r>
              <a:rPr b="1" lang="en-US" sz="9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rdf:value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gt;</a:t>
            </a:r>
            <a:r>
              <a:rPr b="1" lang="en-US" sz="900" spc="-1" strike="noStrike">
                <a:solidFill>
                  <a:srgbClr val="2d2525"/>
                </a:solidFill>
                <a:latin typeface="Times New Roman"/>
              </a:rPr>
              <a:t>programs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lt;/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rdf:value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gt;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ns2:SCOPE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gt;</a:t>
            </a:r>
            <a:r>
              <a:rPr b="1" lang="en-US" sz="900" spc="-1" strike="noStrike">
                <a:solidFill>
                  <a:srgbClr val="2d2525"/>
                </a:solidFill>
                <a:latin typeface="Times New Roman"/>
              </a:rPr>
              <a:t>schedules or plans of procedure under which a series of intended activities is directed toward desired results (note: use a more specific term if possbile)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lt;/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ns2:SCOPE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gt;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ns2:RT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resource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900" spc="-1" strike="noStrike">
                <a:solidFill>
                  <a:srgbClr val="2d2525"/>
                </a:solidFill>
                <a:latin typeface="Times New Roman"/>
              </a:rPr>
              <a:t>http://raven.ischool.washington.edu/thesauri/eric?program_administration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ns2:RT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resource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900" spc="-1" strike="noStrike">
                <a:solidFill>
                  <a:srgbClr val="2d2525"/>
                </a:solidFill>
                <a:latin typeface="Times New Roman"/>
              </a:rPr>
              <a:t>http://raven.ischool.washington.edu/thesauri/eric?program_attitudes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ns2:RT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resource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900" spc="-1" strike="noStrike">
                <a:solidFill>
                  <a:srgbClr val="2d2525"/>
                </a:solidFill>
                <a:latin typeface="Times New Roman"/>
              </a:rPr>
              <a:t>http://raven.ischool.washington.edu/thesauri/eric?program_budgeting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ns2:RT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resource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900" spc="-1" strike="noStrike">
                <a:solidFill>
                  <a:srgbClr val="2d2525"/>
                </a:solidFill>
                <a:latin typeface="Times New Roman"/>
              </a:rPr>
              <a:t>http://raven.ischool.washington.edu/thesauri/eric?program content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6019920" y="3123720"/>
            <a:ext cx="914400" cy="685800"/>
          </a:xfrm>
          <a:prstGeom prst="line">
            <a:avLst/>
          </a:prstGeom>
          <a:ln w="31680">
            <a:solidFill>
              <a:srgbClr val="f703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Link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rdf parser from w3.org</a:t>
            </a:r>
            <a:br>
              <a:rPr sz="2400"/>
            </a:br>
            <a:r>
              <a:rPr b="0" i="1" lang="en-US" sz="1400" spc="-1" strike="noStrike">
                <a:solidFill>
                  <a:srgbClr val="2d2525"/>
                </a:solidFill>
                <a:latin typeface="Times New Roman"/>
              </a:rPr>
              <a:t>http://www.w3.org/RDF/Implementations/SiRPAC/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RDF Model and Syntax Specification</a:t>
            </a:r>
            <a:br>
              <a:rPr sz="2400"/>
            </a:br>
            <a:r>
              <a:rPr b="0" i="1" lang="en-US" sz="1400" spc="-1" strike="noStrike">
                <a:solidFill>
                  <a:srgbClr val="2d2525"/>
                </a:solidFill>
                <a:latin typeface="Times New Roman"/>
              </a:rPr>
              <a:t>http://www.w3.org/TR/REC-rdf-syntax/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RDF Schema Specification 1.0</a:t>
            </a:r>
            <a:br>
              <a:rPr sz="2400"/>
            </a:br>
            <a:r>
              <a:rPr b="0" i="1" lang="en-US" sz="1400" spc="-1" strike="noStrike">
                <a:solidFill>
                  <a:srgbClr val="2d2525"/>
                </a:solidFill>
                <a:latin typeface="Times New Roman"/>
              </a:rPr>
              <a:t>http://www.w3.org/TR/2000/CR-rdf-schema-20000327/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RDF homepage</a:t>
            </a:r>
            <a:br>
              <a:rPr sz="2400"/>
            </a:br>
            <a:r>
              <a:rPr b="0" i="1" lang="en-US" sz="1400" spc="-1" strike="noStrike">
                <a:solidFill>
                  <a:srgbClr val="2d2525"/>
                </a:solidFill>
                <a:latin typeface="Times New Roman"/>
              </a:rPr>
              <a:t>http://www.w3c.org/RDF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Expressing Qualified Dublin Core in RDF</a:t>
            </a:r>
            <a:br>
              <a:rPr sz="2400"/>
            </a:br>
            <a:r>
              <a:rPr b="0" i="1" lang="en-US" sz="1400" spc="-1" strike="noStrike">
                <a:solidFill>
                  <a:srgbClr val="2d2525"/>
                </a:solidFill>
                <a:latin typeface="Times New Roman"/>
              </a:rPr>
              <a:t>http://www.mathematik.uni-osnabrueck.de/projects/dcqual/qual21.3.1/qual21-3-1.html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e Gateway to Educational Materials</a:t>
            </a:r>
            <a:br>
              <a:rPr sz="2400"/>
            </a:br>
            <a:r>
              <a:rPr b="0" i="1" lang="en-US" sz="1400" spc="-1" strike="noStrike">
                <a:solidFill>
                  <a:srgbClr val="2d2525"/>
                </a:solidFill>
                <a:latin typeface="Times New Roman"/>
              </a:rPr>
              <a:t>http://www.thegateway.org/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GEMinfo (about the Gateway)</a:t>
            </a:r>
            <a:br>
              <a:rPr sz="2400"/>
            </a:br>
            <a:r>
              <a:rPr b="0" i="1" lang="en-US" sz="1400" spc="-1" strike="noStrike">
                <a:solidFill>
                  <a:srgbClr val="2d2525"/>
                </a:solidFill>
                <a:latin typeface="Times New Roman"/>
              </a:rPr>
              <a:t>http://www.geminfo.org/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urrent work on theGateway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Designing RDF based record structures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onverting old data to RDF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Establishing standards for expressing Dublin Core metadata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ww.thegateway.org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 consortial effort to provide a directory to quality educational materials on the web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395460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Behind the scenes: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Content providers and consortium members catalog and embed metadata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Register URIs with GEM 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Harvester crawls the metadata, builds database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GEM1 data is html meta tags.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Descriptors based on Dublin Core + GEM qualifiers: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www.</a:t>
            </a:r>
            <a:r>
              <a:rPr b="0" i="1" lang="en-US" sz="28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geminfo</a:t>
            </a:r>
            <a:r>
              <a:rPr b="0" i="1" lang="en-US" sz="28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.org/_x000b_Workbench/Metadata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hat is RDF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An evolving XML application.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A model for representing metadata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A syntax for encoding and transporting this metadata.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A real-life beginning of the </a:t>
            </a:r>
            <a:r>
              <a:rPr b="1" i="1" lang="en-US" sz="2400" spc="-1" strike="noStrike">
                <a:solidFill>
                  <a:srgbClr val="061c62"/>
                </a:solidFill>
                <a:latin typeface="Times New Roman"/>
              </a:rPr>
              <a:t>semantic web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04920" y="3886200"/>
            <a:ext cx="7391160" cy="1451520"/>
            <a:chOff x="304920" y="3886200"/>
            <a:chExt cx="7391160" cy="1451520"/>
          </a:xfrm>
        </p:grpSpPr>
        <p:sp>
          <p:nvSpPr>
            <p:cNvPr id="102" name=""/>
            <p:cNvSpPr/>
            <p:nvPr/>
          </p:nvSpPr>
          <p:spPr>
            <a:xfrm>
              <a:off x="304920" y="4191120"/>
              <a:ext cx="3276360" cy="83808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19920" y="3886200"/>
              <a:ext cx="1676160" cy="1295280"/>
            </a:xfrm>
            <a:prstGeom prst="rect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value of 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the property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81280" y="4610160"/>
              <a:ext cx="2438640" cy="0"/>
            </a:xfrm>
            <a:prstGeom prst="line">
              <a:avLst/>
            </a:prstGeom>
            <a:ln w="9360">
              <a:solidFill>
                <a:srgbClr val="2d25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1400" y="4343400"/>
              <a:ext cx="234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Stuff in the world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8480" y="4146480"/>
              <a:ext cx="13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property </a:t>
              </a:r>
              <a:br>
                <a:rPr sz="2400"/>
              </a:b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of stuff </a:t>
              </a:r>
              <a:br>
                <a:rPr sz="2400"/>
              </a:b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219320" y="5638680"/>
            <a:ext cx="6024240" cy="459720"/>
            <a:chOff x="1219320" y="5638680"/>
            <a:chExt cx="6024240" cy="459720"/>
          </a:xfrm>
        </p:grpSpPr>
        <p:grpSp>
          <p:nvGrpSpPr>
            <p:cNvPr id="108" name=""/>
            <p:cNvGrpSpPr/>
            <p:nvPr/>
          </p:nvGrpSpPr>
          <p:grpSpPr>
            <a:xfrm>
              <a:off x="1219320" y="5638680"/>
              <a:ext cx="3907440" cy="459720"/>
              <a:chOff x="1219320" y="5638680"/>
              <a:chExt cx="3907440" cy="459720"/>
            </a:xfrm>
          </p:grpSpPr>
          <p:sp>
            <p:nvSpPr>
              <p:cNvPr id="109" name=""/>
              <p:cNvSpPr/>
              <p:nvPr/>
            </p:nvSpPr>
            <p:spPr>
              <a:xfrm>
                <a:off x="1219320" y="5638680"/>
                <a:ext cx="109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Subject</a:t>
                </a:r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809160" y="5638680"/>
                <a:ext cx="131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Predicate</a:t>
                </a:r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6248880" y="56386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Object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o what does it look like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&lt;rdf:Description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rdf:about = "http://someplace.edu"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&lt;interest_level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Really Interesting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&lt;/interest_level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&lt;/rdf:Description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2114640"/>
            <a:ext cx="1676520" cy="459720"/>
          </a:xfrm>
          <a:prstGeom prst="rect">
            <a:avLst/>
          </a:prstGeom>
          <a:solidFill>
            <a:srgbClr val="d8d688"/>
          </a:solidFill>
          <a:ln w="19080">
            <a:solidFill>
              <a:srgbClr val="586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3429000"/>
            <a:ext cx="1676520" cy="459720"/>
          </a:xfrm>
          <a:prstGeom prst="rect">
            <a:avLst/>
          </a:prstGeom>
          <a:solidFill>
            <a:srgbClr val="d8d688"/>
          </a:solidFill>
          <a:ln w="19080">
            <a:solidFill>
              <a:srgbClr val="586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edica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495680"/>
            <a:ext cx="1676520" cy="459720"/>
          </a:xfrm>
          <a:prstGeom prst="rect">
            <a:avLst/>
          </a:prstGeom>
          <a:solidFill>
            <a:srgbClr val="d8d688"/>
          </a:solidFill>
          <a:ln w="19080">
            <a:solidFill>
              <a:srgbClr val="586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362320" y="3276720"/>
            <a:ext cx="457200" cy="380880"/>
          </a:xfrm>
          <a:prstGeom prst="line">
            <a:avLst/>
          </a:prstGeom>
          <a:ln w="9360">
            <a:solidFill>
              <a:srgbClr val="2d25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3657600"/>
            <a:ext cx="380880" cy="304920"/>
          </a:xfrm>
          <a:prstGeom prst="line">
            <a:avLst/>
          </a:prstGeom>
          <a:ln w="9360">
            <a:solidFill>
              <a:srgbClr val="2d25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019920" y="3809880"/>
            <a:ext cx="457200" cy="609840"/>
          </a:xfrm>
          <a:prstGeom prst="line">
            <a:avLst/>
          </a:prstGeom>
          <a:ln w="9360">
            <a:solidFill>
              <a:srgbClr val="2d25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5715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nd that is the entire model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ublin Core in RDF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rdf:Description rdf:about="http://some_URI”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title&gt;Expressing Dublin Core with</a:t>
            </a:r>
            <a:br>
              <a:rPr sz="2000"/>
            </a:b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  RDF&lt;/dc:title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creator&gt; Eric Miller &lt;/dc:creator&gt; &lt;dc:subject&gt; Dublin Core; RDF; XML &lt;/dc:subject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publisher&gt; Dublin Core Metadata Initiative &lt;/dc:publisher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contributor&gt;Dublin Core Data Model Working Group &lt;/dc:contributor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date&gt; 1999-07-01 &lt;/dc:date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format&gt; text/html &lt;/dc:format&gt; &lt;dc:language&gt; en &lt;/dc:language&gt; &lt;/rdf:Description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14400" y="1447920"/>
            <a:ext cx="6019920" cy="4952880"/>
            <a:chOff x="914400" y="1447920"/>
            <a:chExt cx="6019920" cy="4952880"/>
          </a:xfrm>
        </p:grpSpPr>
        <p:sp>
          <p:nvSpPr>
            <p:cNvPr id="124" name=""/>
            <p:cNvSpPr/>
            <p:nvPr/>
          </p:nvSpPr>
          <p:spPr>
            <a:xfrm>
              <a:off x="914400" y="1447920"/>
              <a:ext cx="6019920" cy="495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125" name="sirpac_54928" descr=""/>
            <p:cNvPicPr/>
            <p:nvPr/>
          </p:nvPicPr>
          <p:blipFill>
            <a:blip r:embed="rId1"/>
            <a:stretch/>
          </p:blipFill>
          <p:spPr>
            <a:xfrm>
              <a:off x="990720" y="1523880"/>
              <a:ext cx="5833800" cy="4795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tructured entiti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ell, there are complications…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601956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rdf:Description rdf:about = "http://some_uri"&gt; 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dc:creator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rdf:Description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gem:person value="Jon Jab" /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gem:email value="jonjab@u.wash.edu" /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/rdf:Description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/dc:creator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/rdf:Description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854520" y="1447920"/>
            <a:ext cx="3763800" cy="2666880"/>
            <a:chOff x="3854520" y="1447920"/>
            <a:chExt cx="3763800" cy="2666880"/>
          </a:xfrm>
        </p:grpSpPr>
        <p:sp>
          <p:nvSpPr>
            <p:cNvPr id="130" name=""/>
            <p:cNvSpPr/>
            <p:nvPr/>
          </p:nvSpPr>
          <p:spPr>
            <a:xfrm>
              <a:off x="3854520" y="1447920"/>
              <a:ext cx="1905120" cy="60948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07360" y="2438640"/>
              <a:ext cx="1600200" cy="53316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50160" y="3505320"/>
              <a:ext cx="838080" cy="609480"/>
            </a:xfrm>
            <a:prstGeom prst="rect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Jon Jab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1760" y="3505320"/>
              <a:ext cx="990360" cy="609480"/>
            </a:xfrm>
            <a:prstGeom prst="rect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jonjab@</a:t>
              </a:r>
              <a:br>
                <a:rPr sz="1000"/>
              </a:b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u.wash.edu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31040" y="1981440"/>
              <a:ext cx="533520" cy="457200"/>
            </a:xfrm>
            <a:prstGeom prst="line">
              <a:avLst/>
            </a:prstGeom>
            <a:ln w="9360">
              <a:solidFill>
                <a:srgbClr val="2d25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988240" y="2971800"/>
              <a:ext cx="380880" cy="533520"/>
            </a:xfrm>
            <a:prstGeom prst="line">
              <a:avLst/>
            </a:prstGeom>
            <a:ln w="9360">
              <a:solidFill>
                <a:srgbClr val="2d25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45440" y="2971800"/>
              <a:ext cx="380880" cy="533520"/>
            </a:xfrm>
            <a:prstGeom prst="line">
              <a:avLst/>
            </a:prstGeom>
            <a:ln w="9360">
              <a:solidFill>
                <a:srgbClr val="2d25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59440" y="166068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http://some_uri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89680" y="2057400"/>
              <a:ext cx="94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dc:creator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99320" y="3124440"/>
              <a:ext cx="94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gem:person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1800" y="304812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gem:email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ame approach for Statements about Statement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dc:relation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gem:isChildOf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rdf:value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0" lang="en-US" sz="1800" spc="-1" strike="noStrike" u="sng">
                <a:solidFill>
                  <a:srgbClr val="365d96"/>
                </a:solidFill>
                <a:uFillTx/>
                <a:latin typeface="Courier New"/>
                <a:hlinkClick r:id="rId1"/>
              </a:rPr>
              <a:t>http://www.nytimes.com/learning/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rdf:value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rdfs:label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Lesson Plan Archive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rdfs:label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gem:isChildOf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dc:relation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1T01:07:55Z</dcterms:created>
  <dc:creator>Jon Jablonski</dc:creator>
  <dc:description/>
  <dc:language>en-US</dc:language>
  <cp:lastModifiedBy>Jon Jablonski</cp:lastModifiedBy>
  <dcterms:modified xsi:type="dcterms:W3CDTF">2002-04-18T03:53:04Z</dcterms:modified>
  <cp:revision>11</cp:revision>
  <dc:subject/>
  <dc:title>The Resource Description Framework</dc:title>
</cp:coreProperties>
</file>