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8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5A2DF27-E04D-44AA-BAE2-AE98E26E0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patial data is a good metaphor for textual data, and might be useful for informing the study of text-based data hand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distinct parallels between RDBMS, text IR and GIS, which all co-evolved in 1960s and 70s.  The computational methods and paradigms are identic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IR began with results from 2 national elections and a complete set of 1:250,000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ata is being converted into useful GI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participation was designed to make a concrete contribution to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document the digitization process (make a man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make design recommend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IR is currently housed in the Russian Language section of the library.  Chief workers are a 25% systems librarian, 2 volunteer geographers, and 1 work-study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ing is performed by the work-study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, edge-matching, topology creation, and data integration is done by the geograp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librarian is designing th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flow recommend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ed up the conversion of paper ma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written guid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 intermediate staff for error correction and edge mat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demographic database concurr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QL server over Arc S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e tabular election data straight into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iminates intermediate st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l with anomalies rather than manually handling individual file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de on scale to determine hardware / software / financial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+ fte, 1+ year design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opt the Arc SD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s of an issue now that a year has gone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o will be responsible for CEI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ities Research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ic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efully plan for other form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s, video,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772-6094-416A-8033-8DA74534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DDD-1F25-4AA0-A0B8-59AB9202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114-5A8D-485C-A4BC-63E170B7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545-04CB-4FAD-9FA1-29BABB21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7102-528B-4187-8566-FBA94D29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312-4F09-4677-A1CE-FE59DB11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055B-7229-4EF2-9D1D-01F6C2D4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8BF1-9B65-4930-A936-E41A0218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DF8E-24F7-4374-9467-52255EC4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0CCE-7EEB-425A-B365-E6A17629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055A-DB40-4F5B-A623-EC5200F1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7D0-C6A6-4B7C-9D6B-8426993C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C56-D8F4-4D0B-87B4-1C5612CD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7A7A-2DBF-4FD2-94C0-495745E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540B-8720-4271-933D-7C6541BA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E6B3-60DE-4B3C-94D7-73EAF3A0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71E2-2974-4BE2-A429-DD3F8190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0D3-C3D0-4D6D-97DA-B21DB42E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76C-C416-4BCA-A05A-A575025F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EEA-6BB3-42C3-B459-E8570467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601-A149-4696-A7B0-2EFA7591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5E2-5D0F-4110-AAB5-43216424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1B3-59BB-4260-ABF6-80FA6661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DA1-8593-4611-8C3F-66B2849C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475D-EDAA-431B-B5B4-0F7B883BB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6507-CF44-49C6-8FFD-A3F2D0662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4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8600" y="76320"/>
            <a:ext cx="67057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4876920"/>
            <a:ext cx="57913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ap / GIS Librarian Presentation</a:t>
            </a:r>
            <a:br>
              <a:rPr sz="28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University of Tennessee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3600" y="541008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on Jablon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Information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93200" y="640080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10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6553080" cy="505620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7086240" y="1457280"/>
            <a:ext cx="843480" cy="1590120"/>
            <a:chOff x="7086240" y="1457280"/>
            <a:chExt cx="843480" cy="1590120"/>
          </a:xfrm>
        </p:grpSpPr>
        <p:sp>
          <p:nvSpPr>
            <p:cNvPr id="337" name=""/>
            <p:cNvSpPr/>
            <p:nvPr/>
          </p:nvSpPr>
          <p:spPr>
            <a:xfrm>
              <a:off x="7086240" y="1457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51040" y="1457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19440" y="1457280"/>
              <a:ext cx="3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47160" y="1457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79920" y="1457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5012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2464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0096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72960" y="14572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1652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8960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63760" y="145728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1640" y="1457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1612800"/>
              <a:ext cx="284040" cy="14472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0" y="91"/>
                  </a:moveTo>
                  <a:lnTo>
                    <a:pt x="61" y="0"/>
                  </a:lnTo>
                  <a:lnTo>
                    <a:pt x="120" y="91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ffec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6640" y="1601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71080" y="1601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07800" y="16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7400" y="1601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79800" y="1601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49640" y="1601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86600" y="1757520"/>
              <a:ext cx="284040" cy="14112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89"/>
                  </a:moveTo>
                  <a:lnTo>
                    <a:pt x="61" y="0"/>
                  </a:lnTo>
                  <a:lnTo>
                    <a:pt x="120" y="89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fec8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06640" y="174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71800" y="174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39480" y="174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2960" y="1743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15440" y="174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49640" y="174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18040" y="174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86600" y="1898640"/>
              <a:ext cx="284040" cy="14112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89"/>
                  </a:moveTo>
                  <a:lnTo>
                    <a:pt x="61" y="0"/>
                  </a:lnTo>
                  <a:lnTo>
                    <a:pt x="120" y="89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eec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0664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7180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39480" y="1887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72960" y="18874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15440" y="1887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4964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1804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8320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6600" y="2039760"/>
              <a:ext cx="284040" cy="14472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0" y="91"/>
                  </a:moveTo>
                  <a:lnTo>
                    <a:pt x="61" y="0"/>
                  </a:lnTo>
                  <a:lnTo>
                    <a:pt x="120" y="91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cda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0664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7180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4020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07520" y="2027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41360" y="2027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80600" y="2027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1804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8320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5124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86600" y="2184480"/>
              <a:ext cx="284040" cy="139680"/>
            </a:xfrm>
            <a:custGeom>
              <a:avLst/>
              <a:gdLst/>
              <a:ahLst/>
              <a:rect l="l" t="t" r="r" b="b"/>
              <a:pathLst>
                <a:path w="179" h="88">
                  <a:moveTo>
                    <a:pt x="0" y="88"/>
                  </a:moveTo>
                  <a:lnTo>
                    <a:pt x="61" y="0"/>
                  </a:lnTo>
                  <a:lnTo>
                    <a:pt x="120" y="88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a2cd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0664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7180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4020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07520" y="2168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41360" y="2168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80600" y="2168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1804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8320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5124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6600" y="2324160"/>
              <a:ext cx="284040" cy="14436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0" y="91"/>
                  </a:moveTo>
                  <a:lnTo>
                    <a:pt x="61" y="0"/>
                  </a:lnTo>
                  <a:lnTo>
                    <a:pt x="120" y="91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9a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0664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7180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4020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07520" y="231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41360" y="2313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80600" y="231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1804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8320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5124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86600" y="2468520"/>
              <a:ext cx="284040" cy="14148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89"/>
                  </a:moveTo>
                  <a:lnTo>
                    <a:pt x="61" y="0"/>
                  </a:lnTo>
                  <a:lnTo>
                    <a:pt x="120" y="89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00c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664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7180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4020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07520" y="2454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1360" y="2454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80600" y="2454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1804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8320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5124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6600" y="2610000"/>
              <a:ext cx="284040" cy="14112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89"/>
                  </a:moveTo>
                  <a:lnTo>
                    <a:pt x="61" y="0"/>
                  </a:lnTo>
                  <a:lnTo>
                    <a:pt x="120" y="89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7a8a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0664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7180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020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07520" y="2593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41360" y="25938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80600" y="2593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1804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8320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5124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6600" y="2751120"/>
              <a:ext cx="284040" cy="14436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0" y="91"/>
                  </a:moveTo>
                  <a:lnTo>
                    <a:pt x="61" y="0"/>
                  </a:lnTo>
                  <a:lnTo>
                    <a:pt x="120" y="91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01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0664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180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020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07520" y="2738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41360" y="2738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80600" y="2738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1804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8320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124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86600" y="2895480"/>
              <a:ext cx="284040" cy="139680"/>
            </a:xfrm>
            <a:custGeom>
              <a:avLst/>
              <a:gdLst/>
              <a:ahLst/>
              <a:rect l="l" t="t" r="r" b="b"/>
              <a:pathLst>
                <a:path w="179" h="88">
                  <a:moveTo>
                    <a:pt x="0" y="88"/>
                  </a:moveTo>
                  <a:lnTo>
                    <a:pt x="61" y="0"/>
                  </a:lnTo>
                  <a:lnTo>
                    <a:pt x="120" y="88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01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0664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7180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020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07520" y="2879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41360" y="2879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80600" y="2879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1804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320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5124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950880" y="54612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Times New Roman"/>
              </a:rPr>
              <a:t>City of Seatt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Times New Roman"/>
              </a:rPr>
              <a:t>North of La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Times New Roman"/>
              </a:rPr>
              <a:t>Washington Ship Ca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dditional Infor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IS portfolio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whatsgrowing.com/j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ludes public version of CEIR re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eographic analysi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students.washington.edu/jonjab/kitsap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vironmental remediation in Kitsap Coun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IR prototype page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depts.washington.edu/reecas/atlas/ceir-1.h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d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676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ibrary School Mapp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18960" y="2147760"/>
            <a:ext cx="708660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neaking suspic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spatial data = Textu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ed by an independent stu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BMS, text IR and GIS all handle data simila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Central Eurasian Information Resource (CEIR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outgrowth of 2 UW doctoral disser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rning Russian paper maps into a data repository for thematic m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contribu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CEIR useful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ystems Design &amp; Analysis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858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cope of CEI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50" name="RussiaAdDivisions" descr=""/>
          <p:cNvPicPr/>
          <p:nvPr/>
        </p:nvPicPr>
        <p:blipFill>
          <a:blip r:embed="rId1"/>
          <a:stretch/>
        </p:blipFill>
        <p:spPr>
          <a:xfrm>
            <a:off x="1676520" y="1547640"/>
            <a:ext cx="7467480" cy="53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y involv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through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workflow and make design recommend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e an obl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 two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 demographic and elec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sentially:  create a digital map from a paper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80880" y="1171440"/>
            <a:ext cx="3417840" cy="35528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200400" y="4095720"/>
            <a:ext cx="5791320" cy="2533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724280" y="1752480"/>
            <a:ext cx="336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indent="-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Layers Cre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ast, Rayon, &amp; Lak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2000" y="5410080"/>
            <a:ext cx="22046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t = U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on = US Cou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goal:  short ter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nline resource to produce the same sorts of thematic maps made in every introductory Cartography cou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5550120" y="514188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pop by county map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343400" y="2590920"/>
            <a:ext cx="49528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Goal:  Long Ter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951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ine GIS data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graph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 and textual resources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4114800" y="190512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y recommenda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up conversion of paper ma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databas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 tabular election data straight into 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 Initial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DE or not to S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ill CEIR l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ly plan for expa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21:16:37Z</dcterms:created>
  <dc:creator>Information School</dc:creator>
  <dc:description/>
  <dc:language>en-US</dc:language>
  <cp:lastModifiedBy>Jon Jablonski</cp:lastModifiedBy>
  <dcterms:modified xsi:type="dcterms:W3CDTF">2002-05-09T05:07:36Z</dcterms:modified>
  <cp:revision>12</cp:revision>
  <dc:subject/>
  <dc:title>Slide 1</dc:title>
</cp:coreProperties>
</file>