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C759-3A06-438D-B72B-95CA286D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42BB-4218-4AA5-B0D4-3B3DB1D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1DD5-4CDD-49CF-8185-6AAB421C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8681-BC3F-4BF4-A6B7-C72EE234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D5BD0-058B-4C46-8023-A6A7164F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519D-E637-4FF2-8963-C466B717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F2BD-B8DF-412E-8864-D7E912C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3BA9-069E-4AF4-A98F-462C5EC8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C3A29-B466-4946-A211-990CDBB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F5246-833C-4862-992D-8856EB1E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7B63-E2E1-48CA-800A-C63B1E1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70A5-A9F2-483D-8758-9BB6DEE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6F644-2E95-4C60-AADD-41CE0EE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C2CA3-9E73-436A-A2A4-6533F72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5AC45-F15D-457C-8F4B-F2EDCBB7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7A89F-C9C7-457A-9C91-ECD34599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53FBC-63C8-491E-B836-CB140B44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558E-4CF7-4798-BB28-A67D6969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102A-C814-41C8-AC9F-23664F4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CE4A-06B9-43CF-B5B0-C71BA1A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379C-7733-47C0-AD15-E4097FB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1737-796A-4896-86F6-B94D6841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B92F-F323-42F1-A312-C213D6C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2291-BFBE-45E5-9693-AC37D19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4811-66DF-4C2C-ADF5-D7D9C8FE1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E38-019A-4E48-B6F1-49D15240B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njab@u.washington.ed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7010640" cy="4119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ASIS(&amp;T) Annual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Wrap-up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 Jablon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chool November 20,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7467480" cy="5281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is still a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Buckl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ant #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ome say it’s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Smiral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youngsters stil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 P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ritical Theory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3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00200" y="1447920"/>
            <a:ext cx="7543800" cy="75960"/>
            <a:chOff x="1600200" y="1447920"/>
            <a:chExt cx="7543800" cy="75960"/>
          </a:xfrm>
        </p:grpSpPr>
        <p:sp>
          <p:nvSpPr>
            <p:cNvPr id="126" name=""/>
            <p:cNvSpPr/>
            <p:nvPr/>
          </p:nvSpPr>
          <p:spPr>
            <a:xfrm>
              <a:off x="1600200" y="1523880"/>
              <a:ext cx="754380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447920"/>
              <a:ext cx="754380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Mor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needs Index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jobs for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miss SIG/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ia Bat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final gia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Questions &amp; Comment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067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Jonjab@u.washington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.washington.edu/jonjab/asis/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097160" cy="3422880"/>
          </a:xfrm>
          <a:prstGeom prst="rect">
            <a:avLst/>
          </a:prstGeom>
          <a:ln w="284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How to get there: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 way to 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to room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a room or stay in a youth ho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ways spend twice as much money as plan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514600"/>
            <a:ext cx="792468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Take it easy: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91404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re the day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and do every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half day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278680" cy="3565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Attending Session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9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themes, draw connection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of systems / designing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management / Vis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40618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ll see the same people.  Make some new friends in a nich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4038480"/>
            <a:ext cx="792504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Keynot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8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828440"/>
            <a:ext cx="632448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wster Kah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.archiv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 by Clifford Lynch:  (giant # 1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functions of a library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remember, learn, create”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r cultural heritage is evaporating before our ey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8120" y="57146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ecutive Director: Coalition for Networked Information.  Former head of library automation for UC system.  A really smart gu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639800"/>
            <a:ext cx="111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Building the archiv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7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wster is a guy that doesn’t whine about how hard something is or what the implications might be.  He just builds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 the Web as it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tion through repl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‘no robo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everything, remove those that com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aily Session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6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152280" y="1600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s / Designing 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50817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System Building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5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and Measures to Describe Network Use, Users, and 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McClure, John Carlo Bertot, F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media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repositor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language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script design:  It’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lingual thesaurus design at the 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Libraries at Harv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d design in a decentraliz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Image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of imaging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at 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ization of Arciva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mls / ma at UCLA:  Howard Besser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ant #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study of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/ how do pictur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present information graph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772400" y="1523880"/>
            <a:ext cx="1160640" cy="4711680"/>
          </a:xfrm>
          <a:prstGeom prst="rect">
            <a:avLst/>
          </a:prstGeom>
          <a:ln w="1908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07:24:29Z</dcterms:created>
  <dc:creator>Jon Jablonski</dc:creator>
  <dc:description/>
  <dc:language>en-US</dc:language>
  <cp:lastModifiedBy>Information School</cp:lastModifiedBy>
  <dcterms:modified xsi:type="dcterms:W3CDTF">2002-04-17T20:59:44Z</dcterms:modified>
  <cp:revision>9</cp:revision>
  <dc:subject/>
  <dc:title>ASIS(&amp;T) Annual Meeting Wrap-up </dc:title>
</cp:coreProperties>
</file>